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7655-6965-4077-9BF1-8C824AAC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11F6-317A-40D3-8B26-DC2CEB0D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CB10-98D1-47FC-8559-A122B3D1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812-9AB8-462E-961B-95A3E2FD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0C85-B597-410D-A441-1F87150D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9992-D591-4404-B273-C7CC0CB7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3C8C-221B-47D8-BFE1-1C0E5251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505E-6698-40F4-8B1F-0D7149CB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0965-AAB9-490B-8F07-44397660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517C-36DB-496F-980F-A17B1E39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2361-DE12-4883-B608-A0DEA94F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552D-FA74-41F7-82E7-6DCB218E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3847-1BEE-4A11-9AD2-3BC4CE08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8587-29DB-4AFF-89F2-28CACA9C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757B-F3F3-4BEF-B253-69B02FA5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6CB2-A5F9-4F1D-BFF4-D0D0BCD3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79D5-D406-4259-A213-E1927D2F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886-1131-4FEE-9C4C-D7DB8951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E671-14E5-4420-8BD3-7B002E55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8AC9-C137-42E5-AC09-2D6BD4DE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6E4D-44F6-4742-AD84-26EBD2D4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EA19-24D6-45B1-AF7A-E74AC103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2C3A-7DB5-4F88-8CFA-2A1DB26C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CFE6-657C-414B-9C1B-23BE5ACB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A03F-0B73-484A-B96E-0F97B0A3BFC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B55F-8320-4A50-85EF-48EB0A1DDA9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pher A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1)  Get out homework #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to problem #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2) Open Up Grapher, It looks like a rainbow on your bottom ba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3) zoom out till you see 5 on the x and y axix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1062000" cy="1218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48320" y="4495680"/>
            <a:ext cx="1062000" cy="1219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248520" y="3962520"/>
            <a:ext cx="2666880" cy="1758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934320" y="6019920"/>
            <a:ext cx="126360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 Go to eq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167360" y="228600"/>
            <a:ext cx="4976640" cy="3622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3568680" cy="2940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6966000" y="4141800"/>
            <a:ext cx="2178000" cy="2716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80880" y="4267080"/>
            <a:ext cx="632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it points.  Delete Column 3 and double click column 1 row 1 and start editing the points while tabbing to the next point.  Get all four points.  When you have A-&gt;C then back to “A” again, 4 click o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)  Go to eq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point set again, This time delete all the rows and column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 your little 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 these steps for b and 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your mid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553080" y="4038480"/>
            <a:ext cx="2303640" cy="2340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981080" y="5181480"/>
            <a:ext cx="1148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)  Now insert your equ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Equation, New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667320" cy="2986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04920" y="4724280"/>
            <a:ext cx="258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0440" y="4595760"/>
            <a:ext cx="926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ert your 3 equations from little a to A, as well as b to 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 to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5791320"/>
            <a:ext cx="86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the three lines cross at the same point?  What is that poi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2160360" cy="2276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6705720" y="1600200"/>
            <a:ext cx="13269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titu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slope of AB, BC, 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B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BC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182880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1905120"/>
            <a:ext cx="1676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)  Graph the altitu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, B, C with the slopes to graph the altitudes and the New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1720" y="2486160"/>
            <a:ext cx="5836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, A(1,4)   _|_m BC  find the equation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, B(3,0)   _|_m AC find the equation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, C(-1,-2) _|_m AB find the equation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5160" y="297180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- 4 = m(x-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71840" y="411480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= m(x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5181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2= m(x+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04812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51814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B= -2 so _|_m AB = 1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114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= 3 so _|_m AC = -1/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971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BC= 1/2  so _|_m BC = 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267080" y="5543640"/>
            <a:ext cx="19814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aph Problem 31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17:35:43Z</dcterms:created>
  <dc:creator>PA Department of Education</dc:creator>
  <dc:description/>
  <dc:language>en-US</dc:language>
  <cp:lastModifiedBy>PA Department of Education</cp:lastModifiedBy>
  <dcterms:modified xsi:type="dcterms:W3CDTF">2008-03-08T18:21:40Z</dcterms:modified>
  <cp:revision>2</cp:revision>
  <dc:subject/>
  <dc:title>Grapher Activity</dc:title>
</cp:coreProperties>
</file>